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5B7-4C8D-4A25-94B5-62AD0897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140-C5F5-4FCE-A7FC-06E50CAA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851-3A34-4C2B-9734-9854FDAE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7A6-F613-4F92-9054-6B86E490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C97-D605-4A6C-8F1D-40D1481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A61-BA2E-4641-AAEA-E40CC916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475-7888-4D67-BC3B-41F0F1FA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D91-C6B9-4BBA-833E-0F76356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733-A34B-4EA8-BFAE-E39C23A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0E8-9A01-48BC-8561-5FA229EC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C2B-7B12-4067-A741-9D008F4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F91-F5C9-4362-829C-37D81B1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AAC0-1FB6-4A80-9A39-0CF14B72F9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64360" y="62118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gure 1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g_1_a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64360" y="62118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gure 1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ig_1_b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 User</cp:lastModifiedBy>
  <dcterms:modified xsi:type="dcterms:W3CDTF">2005-10-31T20:43:44Z</dcterms:modified>
  <cp:revision>42</cp:revision>
  <dc:subject/>
  <dc:title>PowerPoint Presentation</dc:title>
</cp:coreProperties>
</file>